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264-AFB5-4415-8210-2F9DAFF5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733-4094-49DF-827E-B924C93B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1F9-7615-4003-8BD9-ABD3B137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B5B-F0F2-43A5-AAC8-2AB11489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FB0F-D466-47A0-BFD1-0A480F53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5318-1E7E-4F7C-B44D-E6D4F163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5983-56F0-4388-B400-067C91C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F0C1-F43C-4CF8-9270-5E88BD50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94AA-52B2-4F4E-BB27-02BE9D45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FD34-4E73-44A8-B1E0-83164478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7BD5-AF1D-4FA5-B5C0-EA723E7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050-6234-41A5-BD69-A4C47109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907C-1B74-42D5-8253-590F135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26DE-BFD8-4F1F-A50C-9BD77E6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25FF-CA5E-4A32-9E3F-0604CA13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CF15-8BBC-48D5-BF06-A7D5F50C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5AD5-3940-4A7F-973B-EA6F2454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FB4-52BB-44DA-9467-2E258FB4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741-172F-4860-B91A-9A2B88F7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F7C-B11F-4C6E-BDAC-02FA820B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A09-9B12-47B5-B637-B140DC8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176-36C8-435D-90B1-D9C59C58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A4F-2B93-4850-B456-DDA71742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24A-F6B0-4C7C-9B17-D859A007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F9EF-20B4-43E8-8506-FDD6507FEF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D9EE-6326-447F-95C7-F0C72AFB3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4E7-5731-4802-8792-92011DB1F9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C78-EA1C-4859-B60D-46A48702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de HotSpot de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bilización por usuario por tiempo, datos transferidos/rec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por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e de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ona de navegación libre (Walled Gar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es una tecnología de autenticación que puede ser usada para proveer acceso publico a Int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eropuertos, barcos, hoteles, Universidades, oficinas, salones de conferencia, hosp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des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s o inalám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ifa por autentificar o acces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 de registro en HotSp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habili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 usuario se le asigna una dirección IP, puede ser por el método de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autentifica a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permite al trafico del usuario pasar a trave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Setup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sistente de configuración de HotSpot puede ser usado para configurar HotSpot. Este configura el sistema basado en respuestas a múltiples preguntas al ejecut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/ip hotpot setup’ para ejecutar el asistente de configuración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falla la configuración, use ‘/system reset’ y empiece nue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la interfase donde estarán los usuarios a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interface: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ar configuración de cliente Univers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universal client: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dirección en la Interfac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local de la red hotspot: 10.5.50.1/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mascarar red de hotspot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use enmascaramiento si se estan usando IP’s publicas en la red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un pool para la red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de la red HotSpot: 10.5.50.2-10.5.50.25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 pool es usado por el server DHCP para darles IP’s a los clientes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r autentificación SS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ss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el server 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 del server SMTP: 159.148.147.19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ver de HotSpot redireccionara todos los mails de salida al server SMTP local, por tanto los clientes no necesitan cambiar la configuracion de correo en sus clientes de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 para los clientes hotsp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cache local de D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cal dns cach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l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ers DNS: 159.148.147.194,159.148.60.20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DNS servers seran anadidos a la configurac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DNS de los rutead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usados por los clientes de DHCP de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mbre DNS del server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ns nam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ifique el nombre DNS solamente si tiene un nombre real, de lo contrario déjelo en blanco, especificar un nombre equivocado hara que el HotSpot no funcione adecuadament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o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otro puerto para el servicio (ww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80 es usado por el servicio www, seleccione otro puerto para el puerto de servicio, ejemplo 8081; es necesario para entrar vía winbox al ruteado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ree un usuario local de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 del usuario local de hotspot: j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ssword para el usuari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ol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-dir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mbre-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al-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requiere-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http-coo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ir-unencrypted-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lit-user-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t choice ('/ip servic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ile del usuario permite configurar los parámetros que son comunes para la mayoría de los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 de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ciones de filtrado de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limite de s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s de identificación de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, Autorización y Contabilización (A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rma de usuario HotSpot y co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oS y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para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 y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MAC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ón automática de 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datos 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nocimiento de usuario autor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Opción de marcado ('/ip hotspot profile'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conexiones de usuarios auto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recciona conexiones TCP no autorizadas al servicio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Ejemplo: /ip firewall dst-nat print</a:t>
            </a:r>
            <a:br>
              <a:rPr sz="2900"/>
            </a:b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0   ;;; redirect unauthorized hotspot clients to hotspot service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in-interface=local protocol=tcp flow=!hs-auth action=redirect to-dst-port=8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 a usuarios autorizados el trafi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hazar el trafico de datos de usuarios no autorizados al ruteador y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os protocolos pueden ser permitidos, como ICMP y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input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account traffic from hotspot clients to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ept requests for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accep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   ;;; accept requests for local DHCP serve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67 protocol=udp action=accep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forward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ount traffic for authorized hotspot clients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hotspot-temp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;;; return, if connection is authorized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flow=hs-auth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  ;;; allow ping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protocol=icm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  ;;; allow dns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dst-address=:53 protocol=ud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   ;;; rejec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action=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en interfaces múltiples v2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añadir otra interfase al sistema HotSpot, algunas reglas adicionales deben ser añad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dst-nat add in-interface="prism2" flow="!hs-auth" protocol=tcp action=redirect to-dst-port=80 comment="redirect unauthorized prism2 clients to hotspot servic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forward add in-interface=prism2 action=jump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 add in-interface=prism2 action=jump 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ersión 2.9.x simplemente se da de alta un servidor hotspot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zación de usuarios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 tabla de firewall llamada  ‘hotspot’ debe ser aña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esta tabla debe ir todo el trafico (incluyendo el que va/viene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firewall rule hotspot print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src-address=10.5.7.12/32 action=passthroug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dst-address=10.5.7.12/32 action=pass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sonalizando pagina de autent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paginas de login de HotSpot son facilmente modificables, están guardadas en el ftp server d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irectorio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ando estas paginas puedes facilitar el proceso de login- ingresando solo el login o el password, o sin ingresar nada y solo leer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cuerdo de uso”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in meter ninguna información de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también redireccionar la información de login a otr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sin Login (para algun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permitir a algunas IP’s el uso de Intern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usar el HotSpot, esto es sencillo, solo se adiciona una regla de mangle donde se marcaran los paquetes con la misma marca de los usuarios autentificados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/ip firewall mangle add src-address=10.5.50.100/32 action=accept mark-flow=hs-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alled Garden (area lib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sistema que permite el uso de ciertos recursos a usuarios no autentificados, pero de cualquier manera requeriran autorizacion para otros recursos. Esto es ultil para que los usuarios de HotSpot puedan ingresar a paginas de ayuda o de cobranza aun si no han ingresado un lo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assword va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e: Actualmente no es permitido usar servers de https dentro del walled garden, de lo contrario hay que crear regla de mangle para permitir tal trafico.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: /ip firewall mangle add dst-address=159.148.108.1/32 mark-flow=hs-a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Walled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permitir accesos a gente no autorizada a la pagi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ww.example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ig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paynow.htm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hotspot walled-garden add path="^/paynow\\.html$" \ \... dst-host="^www\\.example\\.com$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de identificación de usu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odos de identificación de host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entrada estática en 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Server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identificación de usu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jecute el wizard de HotSpot mas de una vez ya que no se configurara adecuadamente, si necesita reconfigurar de un ‘system/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despues de cambiar las paginas de HotSpot no funciona, restaure las paginas html de default: ‘/ip hotspot reset-htm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ar un nombre DNS del servidor HotSpot, este no trabajara correctamente, si no tiene nombre, deje el nombre DNS v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lientes que deben tener Internet sin autentificar, revise las reglas de mangle para cada una de esas I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HotSpot Gatewa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un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la interface publica (habilitala, adiciona IP y puerta de enlace o gate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a el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a una segunda Interfase en el 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tentificación local y rem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siempre autentificara usuarios desde la base de datos local, pero si no esta en la lista local preguntara al RADIUS server configurado si hay información de dicho usuarioch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a autentificación remota debe estar habilitada con la información del RADI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RADIUS en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ote Authentication Dial-In User Service (RADIUS) provee contabilización, autentificación y autorización (AAA) centralizada , lo cual significa que puedes tener múltiples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HotSpot en diferentes localidades pero toda la información de usuarios guardada en un solo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ADIUS, esto da la facilidad de ofrecer ROAMING a los usuarios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soporte de cliente RADIUS para servicio de HotSpot en ‘/ip hotspot aa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aaa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use-radius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accounting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im-update: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 RADIUS anadido en  ‘/radiu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radius print detai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   service=hotspot called-id="" domain="" address=10.5.8.8 secret="hot" authentication-port=1812 accounting-port=1813 timeout=300ms accounting-backup=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mínima del freeRADIUS para trabajar con HotSp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host (NAS server) en clients.conf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 10.5.8.1 {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ecret=h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hortname=Hotsp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nombre para el server NAS en el archivo user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r1 User-Password==“password1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el file radiusd.conf para estar seguro que esta debidamente instalado y la configuración esta puesta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tributos útiles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 del archivo users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r1 User-Password == “password1”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Data-Rate = 6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Xmit-Rate = 12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v-Limit = 102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Xmit-Limit = 204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in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otSpot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utentificación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rewall un NA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fpara autenticación e intercep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ues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limitación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HC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obtener direcciones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versal Clien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daptación de I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NS cach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procesamiento de requisicion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Web Proxy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intercepción de requisiciones de web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Pn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configuración automatica de computadoras compatibles con UPn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al Proxy – automáticamente crea reglas de DST-NAT para redireccionar requisiciones de cada usuario part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un proxy server que el usuario este usando hacia el proxy serve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L – provee comunicación segura entre el cliente y el server HotSpot usando Secure HTTP (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alled garden – da acceso a los usuarios para navegar a areas especificas del web sin necesidad de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 es usado pa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segura de datos y autentificación en r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 en capa 2 del modelo OSI, lo cual significa que el tunel es creado sin usar el protocolo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ftware del lado cliente es incluido en la mayoría de los S.O (ej. in Win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tSpot automáticamente añade queues dinámicas para habilitar la velocidad para cada usuario. Estas velocidades pueden ser especificadas en  ‘/ip hotspot profile’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hotspot profi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* name="default" shared-users=1 tx-bit-rate=128000 rx-bit-rate=64000  mark-flow="hs-auth" login-method=enabled-address keepalive-timeout=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ues son anadidas en  ‘/queue simple’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queue simp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 D name="&lt;hotspot-uldis&gt;" target-address=10.5.50.253/32 dst-address=0.0.0.0/0 interface=all queue=default priority=8 limit-at=0/0 max-limit=64000/128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istribución de direcciones IP para un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DHCP server bajo '/ip dhcp-server‘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name="hs-dhcp-server" interface=loc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lease-time=1h address-pool=hs-pool-rea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add-arp=no authoritative=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red del Server DHCP bajo ‘/ip dhcp-server network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network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;;; hotspot network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address=10.5.50.0/24 gateway=10.5.50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dirección especifica por MAC address ‘/ip dhcp-server lease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add address=10.5.50.254 mac-address=00:02:6F:20:34: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iversal Client/IP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ásicamente el cliente universal es un SRC-NAT antes de que el paquete sea marcado y filtrado usando el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cambia cualquier IP a la dirección de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puede trabajar junto con DHCP, proveendo acceso a clientes, sin importar su configuración de IP en su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P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13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s estáticos de ‘Cliente universal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ual IP se tras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estadísticos disponibles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universal host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D mac-address=00:02:6F:20:34:82 address=10.5.50.254 to-address=10.5.50.254 interface=local uptime=6m14s idle-time=4m2s bytes-in=420 bytes-out=420  packets-in=7 packets-out=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700"/>
              </a:spcBef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 de DNS es usado para minimizar requisiciones a un server DNS externo, asi como para minimizar el tiempo de 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es un simple DNS recursivo con entrad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figuración de DNS cache esta bajo ‘/ip dns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dns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primary-dns: 159.148.147.194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secondary-dns: 159.148.60.20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low-remote-requests: y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cache-size: 2048 kB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cache-max-ttl: 7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cache-used: 202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adas estáticas pueden ser añadidas bajo ‘/ip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ns static‘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static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name="hotspot.mikrotik.com“ address=10.5.50.1 ttl=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ache puede ser visto bajo ‘/ip dns cache’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cache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  name="ns.internet.lv" address=194.105.56.6 ttl=20h47m56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  name="nsz.latnet.lv" address=159.148.60.4 ttl=22h43m3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Proxy es usado para optimizar el acceso a Internet y reducir el flujo de datos des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n cliente pide cierta información via Web, el Web Proxy la entrega y la guarda. Si alguien mas solicita la misma informacion , es tomada del cache del Web Proxy y no desde el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guardar cache de flujos de datos de protocolos HTTP y FTP , adicionalmente como mediadir para flujos de datos de protocolo HT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o de Operación de Web proxy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Reg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liente debe especificar en la configuración del explorador las configuraciones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Web proxy puede ser un server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transpar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 ha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ecesidad de especificar los parametros del proxy server en la configuracion del expl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 redirecciona las requisiciones de los clientes directamente al wb prox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eb proxy debe ser cnfigurado en el ruteador (o en el brid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TP no es soportado en mod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HTTP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ser transparente y regular al mism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por origen, destino, URL y método de re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directo (especifica cuales recursos deben ser accedidos directamente y cuales a traves de otro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ilidad de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che puede ser guardado en un disco dur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 de uso en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'/ip web-proxy'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rc-address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l web proxy usara esta direccion para conectarse a los sitios remoto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object-siz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s mas grandes que el tamaño especificado no serán almacenados en el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cache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-driv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che puede ser grabado en un segundo disco 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usado por ISP para 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limitar la velocidad de transmision y re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do con un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RADIUS es posible llevar registros de uso por cada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enabled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rc-address: 0.0.0.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port: 808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hostname: 159.148.172.20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transparent-proxy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parent-proxy: 0.0.0.0: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ache-administrato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bi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.com.m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object-size: 4096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cache-drive: system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cache-size: unlimite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reserved-for-cache: 30083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de uso en tiempo real ‘/ip web-proxy monito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web-proxy monito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uptime: 2d5h48m58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clients: 5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requests: 25823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hits: 12173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cache-size: 23018668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eived-from-servers: 1262203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ent-to-clients: 1564439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hits-sent-to-clients: 300121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(Universal Plug-n-Play) implementa una simple y poderosa solución de NAT transversal, esto habilita al cliente para obtener completo soporte de una red peer-to-peer desde y hacia el 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porta red con descubrimiento automatico sin ninguna configuración inicial, con esto un dispositivo puede dinámicamente enlazar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configuration under ‘/ip upn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UPnP bajo ‘/ip upnp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set enabled=y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public type=external disabled=n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local type=internal disabled=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el trafico peer-to-peer cuando es usado HotSpot.  Algunos cambios en la configuración son neces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(upload/download) Nuevas reglas de mangle de Firewall deben marcar el trafico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DST-NAT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firewall en la cadena Hotspot-temp chain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(upload/download) Reglas de Queus de Arbol son necesarias de configurar para limitar el trafico de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Mangle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flow=hs-auth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in-interface=public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dst-nat add flow=allP2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 la regla de re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 de Cadena de FW Hotspot-temp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rule hotspot-temp add flow=allP2P action=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la regla de rech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Ques de Arbol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uploadP2P parent=public flow=allP2P max-limit=64000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downloadP2P parent=local flow=allP2P max-limit=1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MikroTik RouterOS Hot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uebe el cliente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profile de HotSpot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íquel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verifique limitaciones de ancho de b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sado para autenticación en la red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 esta basada en los protocolos HTTP/HTTPS, lo cual significa que trabaja con cualquier navegador (Explorer, Netscape, Moz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n sistema que combina varias funcionalidades independientes que el RouterOS provee y que son llamadas  acceso ‘Plug-and-Pla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2980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 trata de abrir una pagin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heca si el usuario esta autenticado por el sistema hotspot, si no es así lo redirige a la pagina de 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rovee la información de login y password para tener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14800" y="194796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información de login y password fue correcta,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utentifica al cliente en el sistema HotSpot y abre la pagina solicitada asi como una ventana de status pop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usuario puede acceder al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81760" y="2190600"/>
            <a:ext cx="3171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4T18:22:08Z</dcterms:modified>
  <cp:revision>175</cp:revision>
  <dc:subject/>
  <dc:title>MikroTik RouterOS Firewall un HotSpot</dc:title>
</cp:coreProperties>
</file>